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24899"/>
        <c:axId val="64886840"/>
      </c:barChart>
      <c:catAx>
        <c:axId val="97224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86840"/>
        <c:crosses val="autoZero"/>
        <c:auto val="1"/>
        <c:lblAlgn val="ctr"/>
        <c:lblOffset val="100"/>
        <c:noMultiLvlLbl val="0"/>
      </c:catAx>
      <c:valAx>
        <c:axId val="64886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24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765-E5C7-4681-904E-A70FE06E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959-25CC-4E03-8F7F-86B4CB2A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7A4-F4D5-4BDA-9556-029F7AD6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6B3-14B5-4496-A682-6E246A6B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A0D-A86A-4EC2-9983-DE7BC590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DCC-A007-4F08-9505-1429B7E2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712-E4BC-44C2-AEA6-431113E2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6FC-AA8E-49A6-8942-C59825D0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FA3-C171-44D0-978F-DFB79B4B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415-F428-40D4-A437-708B8D5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C29-B646-4D20-A6CE-0BE4AA8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7DB-5764-4D7B-B054-00506615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B6537-60F3-4CFB-BA0B-0BBD1BD4EE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